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597-7ABB-4832-9B2D-F539E0F0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34C-E540-45E9-B228-15DF632E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443-E1B3-4963-9B13-DF4C2B42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A77-2470-4887-9AEE-B3C6E8BC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E16C-D59F-43D4-B72C-0C5728A8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BEE2-BB05-441B-8F26-1B67EDFC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9D1A-097B-47E6-A511-5C26CCED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759B-3DF4-444A-900A-E77DBC97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C37D-0758-438B-A60B-923286DF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4652-4B3D-4084-8798-4D2C698F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FA1B-1376-4D86-BA58-D591D219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DBC-5A62-4F20-BC51-73E8BE57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0891-C7E7-467B-ACEA-3BCB4D2D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E22D-C3F9-4E8E-B68F-84CCD813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0F3B-95CD-4620-B5F3-9E9B8212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9361-15F6-49AE-B568-DF8FD084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6B61-978E-41F3-93BD-B025CCF3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073-D9AC-405E-8681-452EAC52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DFE-B3E7-4E5B-81B8-FBCB3EFB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36B-CDBB-4507-B8DC-B3D1406B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CA2-ADDE-4730-B897-330F6231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7AF-56DF-44FA-8C9D-2F6809B5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146-5ECD-4EEB-B2D3-8838838F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DF7-1877-4040-9D95-6BFA0B1A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F1C0-785A-4547-9D14-C686CB132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42EB-455C-4FB7-BD25-F5A080AE0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PER PLATE MENU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Food Guide Pyramid to choose your breakfast, lunch, and din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, you need something to dr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and paste the food ads/coupons to your paper p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prepared to present this plate to the class and identify which food group each food belongs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19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3:46:36Z</dcterms:created>
  <dc:creator>GSCS</dc:creator>
  <dc:description/>
  <dc:language>en-US</dc:language>
  <cp:lastModifiedBy>GSCS</cp:lastModifiedBy>
  <dcterms:modified xsi:type="dcterms:W3CDTF">2010-10-26T13:52:53Z</dcterms:modified>
  <cp:revision>1</cp:revision>
  <dc:subject/>
  <dc:title>PAPER PLATE MENU</dc:title>
</cp:coreProperties>
</file>